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757-321E-45E8-88E0-FB115E9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940-3A44-4F47-8374-77A76EA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644-D8FC-4CCB-8E3B-0112690C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840-FA38-4CF5-A819-DDC33B3C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9EC-E750-471C-957E-68A35EC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9EC-F547-4C1A-BE58-8DC4E6A2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003-AC80-45CB-96A8-D07F53FA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FE2-ADE5-416B-9F51-492F6C70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DC7-80FE-4828-9BCD-560B9E66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D6A-6FA0-4AD7-87EE-68BEB16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79E-F3A7-470D-98A2-22C169B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F79-0F1E-4A79-BCF8-C83D0AA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   </a:t>
            </a:r>
            <a:fld id="{C6AA3DA0-25BC-4A25-A016-60DC3CC9CBC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ocionek,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Jan 30t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R&amp;D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- An alternative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D9D-0092-426E-BA14-EA1959ADCD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63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Some Thoughts on role-based R&amp;D Re-organ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202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Idea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Take out „non-productive“ rol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duce amount of specialization, and try utilizing more „generalists“ of highest competencies (supports Scrum team needs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Approach: Structure R&amp;D in two main categor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Production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develop that develop (parts of) the produc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I desigers who define UI and usabilit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crum teams who write software (device layer, middleware, components, applications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rchitecture teams that design the system (HW, SW, MD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lanning and integration teams (release plans, sprint plans, etc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D and HW teams that design layouts, produce prototypes, build samples, etc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400" spc="-1" strike="noStrike" u="sng">
                <a:solidFill>
                  <a:srgbClr val="3a0e66"/>
                </a:solidFill>
                <a:uFillTx/>
                <a:latin typeface="Arial Unicode MS"/>
              </a:rPr>
              <a:t>Service centers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that support the activities of the production cente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fig &amp; Build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ystem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MV tes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IT infrastructur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Training and educa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097280" indent="-2206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ntract mgm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Next step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eam to categorize all staff in production and service contributor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&amp;D mgmt to identify all people who are not needed for either catego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7886880" y="5410080"/>
            <a:ext cx="1104840" cy="6858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文鼎中黑"/>
              </a:rPr>
              <a:t>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6F8-4E14-4A3D-A87B-825D536BB9F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B14-EC95-44EE-8F11-7481451AF0B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iegfried Bocionek</cp:lastModifiedBy>
  <dcterms:modified xsi:type="dcterms:W3CDTF">2006-01-30T08:27:47Z</dcterms:modified>
  <cp:revision>288</cp:revision>
  <dc:subject/>
  <dc:title>PowerPoint 簡報</dc:title>
</cp:coreProperties>
</file>